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BCBA-7465-4B13-98B5-A5F3E56449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44F0-0649-4869-BA0B-FBB2CEAEEB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1CFD-22A8-461A-A8AF-EF75FBE17F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C22A-D599-4FB7-94EB-4F09A67B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F96-AD4C-42A8-B1D6-3BCE122C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CDF8-8E9D-43E6-A4F5-D0663DD46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40B6-748A-4DAD-B5FB-913FD21E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9A51-B0DE-4A92-BF8B-BEA43ED2E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8197-2712-487F-8226-33493A056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349B-2D52-4427-BB5F-CBCB1DAC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C5D1-12B5-4C82-AE10-B0F19A3A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2353-9041-480F-9387-60D51877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567-35CB-4CBF-AE3E-A80A2259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4D4A-B219-46AA-B7FA-BD5BC3E5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454-BDE7-4169-A914-88B782D7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73843-BE9A-4C70-9B37-F66A7F509BF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НИЦИПАЛЬНОЕ АВТОНОМНОЕ ОБЩЕОБРАЗОВАТЕЛЬНОЕ УЧРЕЖДЕНИЕ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УМЛЕКАНСКАЯ СРЕДНЯЯ ОБЩЕОБРАЗОВАТЕЛЬНАЯ ШКОЛ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ЕЙСКОГО РАЙОНА</a:t>
            </a: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71640" y="1988640"/>
            <a:ext cx="69768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Calibri"/>
              </a:rPr>
              <a:t>Экологический проект «Экология – дело каждого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2268360" y="386064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Руководитель : Савкина Г.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751360" y="551664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202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24000" y="333360"/>
          <a:ext cx="8280360" cy="4768920"/>
        </p:xfrm>
        <a:graphic>
          <a:graphicData uri="http://schemas.openxmlformats.org/drawingml/2006/table">
            <a:tbl>
              <a:tblPr/>
              <a:tblGrid>
                <a:gridCol w="5273640"/>
                <a:gridCol w="1317600"/>
                <a:gridCol w="1689120"/>
              </a:tblGrid>
              <a:tr h="17002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ать и издать информационный буклет по правилам пребывания на территории памятника прир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4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ковать на сайте школы информацию по исследованию памятника природы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456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шить вопрос о финансировании  аншлагов, на уровне муниципального райо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2022 г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Прогнозируемый результа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реализации проекта будет разработана программа сохранения  и учёта пиона обратнояйцевидно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еализация проекта позволит повысить детскую, родительскую и педагогическую компетентность в вопросах охраняемых природных территорий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ажно сохранить действующий памятник природы, вести  мониторинг, пропагандировать и устранять экологические нарушения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Спасибо за внимание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4" descr="C:\Users\admin\Desktop\рита\пион2\IMG_9466.JPG"/>
          <p:cNvPicPr/>
          <p:nvPr/>
        </p:nvPicPr>
        <p:blipFill>
          <a:blip r:embed="rId1"/>
          <a:stretch/>
        </p:blipFill>
        <p:spPr>
          <a:xfrm>
            <a:off x="785880" y="1652760"/>
            <a:ext cx="7807320" cy="52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3534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« Сохранение памятника  природы – пиона обратнояйцевидного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admin\Desktop\рита\пион2\IMG_9450.JPG"/>
          <p:cNvPicPr/>
          <p:nvPr/>
        </p:nvPicPr>
        <p:blipFill>
          <a:blip r:embed="rId1"/>
          <a:stretch/>
        </p:blipFill>
        <p:spPr>
          <a:xfrm>
            <a:off x="1714680" y="1643040"/>
            <a:ext cx="630684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Просторы ключа Инокентьевского</a:t>
            </a: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(местообитание  пиона обратнояйцевидног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Users\admin\Desktop\рита\пион2\IMG_9469.JPG"/>
          <p:cNvPicPr/>
          <p:nvPr/>
        </p:nvPicPr>
        <p:blipFill>
          <a:blip r:embed="rId1"/>
          <a:stretch/>
        </p:blipFill>
        <p:spPr>
          <a:xfrm>
            <a:off x="285840" y="1785960"/>
            <a:ext cx="6414840" cy="4276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admin\Desktop\рита\пион2\IMG_9473.JPG"/>
          <p:cNvPicPr/>
          <p:nvPr/>
        </p:nvPicPr>
        <p:blipFill>
          <a:blip r:embed="rId2"/>
          <a:stretch/>
        </p:blipFill>
        <p:spPr>
          <a:xfrm>
            <a:off x="3857760" y="3333600"/>
            <a:ext cx="52862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8560" y="1413000"/>
            <a:ext cx="878508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Цель проекта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сследование ареала пиона обратнояйцевидного, занесенного в красную книгу РФ и являющегося для нашей местности растением более редким, чем пион молочноцветковый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C:\Users\admin\Desktop\рита\пион2\IMG_9459.JPG"/>
          <p:cNvPicPr/>
          <p:nvPr/>
        </p:nvPicPr>
        <p:blipFill>
          <a:blip r:embed="rId1"/>
          <a:stretch/>
        </p:blipFill>
        <p:spPr>
          <a:xfrm>
            <a:off x="285840" y="2928960"/>
            <a:ext cx="4822560" cy="321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admin\Desktop\рита\пион2\IMG_9466.JPG"/>
          <p:cNvPicPr/>
          <p:nvPr/>
        </p:nvPicPr>
        <p:blipFill>
          <a:blip r:embed="rId2"/>
          <a:stretch/>
        </p:blipFill>
        <p:spPr>
          <a:xfrm>
            <a:off x="3571920" y="3143160"/>
            <a:ext cx="55720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Объекты исследования: </a:t>
            </a:r>
            <a:br>
              <a:rPr sz="40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амятники природы: пион обратнояйцевидный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C:\Users\admin\Desktop\рита\пион2\IMG_20200616_171412.jpg"/>
          <p:cNvPicPr/>
          <p:nvPr/>
        </p:nvPicPr>
        <p:blipFill>
          <a:blip r:embed="rId1"/>
          <a:stretch/>
        </p:blipFill>
        <p:spPr>
          <a:xfrm>
            <a:off x="0" y="1428840"/>
            <a:ext cx="4071960" cy="5429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C:\Users\admin\Desktop\рита\пион2\IMG_20200616_171405.jpg"/>
          <p:cNvPicPr/>
          <p:nvPr/>
        </p:nvPicPr>
        <p:blipFill>
          <a:blip r:embed="rId2"/>
          <a:stretch/>
        </p:blipFill>
        <p:spPr>
          <a:xfrm>
            <a:off x="4714920" y="1547640"/>
            <a:ext cx="3983040" cy="53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68360" y="47628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7030a0"/>
                </a:solidFill>
                <a:latin typeface="Calibri"/>
              </a:rPr>
              <a:t>Задачи: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Организовать экспедицию  и изучить территорию с южной стороны озера Большого, в 4 км от с. Чалбачи  (памятник природы) в экологическом, культурном и социальном аспектах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Собрать фото и видео – материал о памятнике прир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Проводить эколого-просветительскую работу среди населения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Создать программу сохранения памятника природ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5. Привлечь внимание Администрации  с. Чалбачи, общественности к проблеме сохранения уникального места произрастания пиона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Материалы и метод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блюдения за живой природой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ршрутный учет и картирование редких видов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Фотографирова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Топосъемк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писание вида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Гербаризация, коллекционирование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актический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C:\Users\admin\Desktop\рита\пион2\IMG_9467.JPG"/>
          <p:cNvPicPr/>
          <p:nvPr/>
        </p:nvPicPr>
        <p:blipFill>
          <a:blip r:embed="rId1"/>
          <a:stretch/>
        </p:blipFill>
        <p:spPr>
          <a:xfrm>
            <a:off x="5214960" y="2714760"/>
            <a:ext cx="302112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395280" y="982800"/>
          <a:ext cx="8569440" cy="5653080"/>
        </p:xfrm>
        <a:graphic>
          <a:graphicData uri="http://schemas.openxmlformats.org/drawingml/2006/table">
            <a:tbl>
              <a:tblPr/>
              <a:tblGrid>
                <a:gridCol w="3024360"/>
                <a:gridCol w="936360"/>
                <a:gridCol w="1224000"/>
                <a:gridCol w="3384720"/>
              </a:tblGrid>
              <a:tr h="9151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жем сделать с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а помощ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800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многодневной экспедиции с целью изучения местности произрастания пион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ю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ь школьный автобус, туристическое оборуд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ужно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участие научного сотрудника, который поможет нам оценить состояние природного объекта, даст рекомендации по дальнейшей работе над проектом.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51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я тропы и создание карто-схемы.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курс эскиза аншлагов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ехнологии изготовления и выборе материа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ка аншлаг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280" rIns="53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3280" marR="53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ктическая природоохранная деятельность. </a:t>
            </a:r>
            <a:br>
              <a:rPr sz="5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br>
              <a:rPr sz="49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95280" y="333360"/>
          <a:ext cx="8748720" cy="5761080"/>
        </p:xfrm>
        <a:graphic>
          <a:graphicData uri="http://schemas.openxmlformats.org/drawingml/2006/table">
            <a:tbl>
              <a:tblPr/>
              <a:tblGrid>
                <a:gridCol w="3960720"/>
                <a:gridCol w="792360"/>
                <a:gridCol w="1727280"/>
                <a:gridCol w="2268360"/>
              </a:tblGrid>
              <a:tr h="576108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онные мероприят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еседы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кологический  сбор «День пион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й проект «Пионы» (цветы из ткани»,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плакат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курс агитбриг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тельские работы по состоянию популяции пиона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1--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овать выставку плакатов с. Чалбачи и с. Умлек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 на почте, в клубе, в магазине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тупить в клуб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ическая помощь в подготовке информационной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пании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 </a:t>
                      </a:r>
                      <a:br>
                        <a:rPr sz="2000"/>
                      </a:b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9T11:39:52Z</dcterms:created>
  <dc:creator>заходить сюда))</dc:creator>
  <dc:description/>
  <dc:language>en-US</dc:language>
  <cp:lastModifiedBy>admin</cp:lastModifiedBy>
  <dcterms:modified xsi:type="dcterms:W3CDTF">2022-04-09T10:30:46Z</dcterms:modified>
  <cp:revision>32</cp:revision>
  <dc:subject/>
  <dc:title>Экологический проект «Моя малая Родина»</dc:title>
</cp:coreProperties>
</file>